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1B22-D770-4234-9570-43AE3682A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4977-9361-4D39-8C0A-79663C860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EE03-4E94-4A2C-8E7D-3A9EE33C7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3CDC-F8CA-4FD9-BBF0-3E095F03C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F9206-2A86-49AD-89F7-6BD85F6A2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C3EAE-A438-4920-8DF2-858BB376D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DA7D5-FD38-41B5-89E6-8C4B3B5E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424D9-663B-4C3C-AADF-121ABFF62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6E6EA-A623-42F6-B7F5-02AF4A9E8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F047C-79FE-4B99-B221-881FF7209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7E512-6FD0-4F24-AE7C-E0BF54A3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BF44-88E3-48B9-BC0C-2F26B35B6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273A0-699F-42F9-BE0C-FFA3CF8D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AD5D4-E569-45FD-918C-7055FD9E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67CB8-A30D-4D4E-B8B9-0C5751AD5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B9B31-0225-4587-B6F7-76074E3AE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13F31-951C-4771-BBDF-3FA03CE3E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29183-73EB-40E7-8B8B-0F7632FD8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0189F-319E-4994-80AB-E39670535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A0E90-0230-440B-A5BC-0CD436FB2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3DAD6-F65B-4D50-8686-B68BE602F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64546-2384-40E7-AE80-3AB08055F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E01A-0A6D-4D32-BB71-04C9EA5BB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B6755-56B9-4A18-BBCC-6AAC2B6D1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CE96E-A28B-4578-AE3F-D4482F89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5E935-CBC7-499C-9157-626884C6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DFD0C-DD81-4F0F-B36D-E77F6CCF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1CC84-422F-411F-8D6B-46558410F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D4ED6-E44B-4C76-BBF4-E2607851F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4E123-DC59-4F4A-B903-201FC837F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B050E-E744-4ADC-82EB-412B299AD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82466-B92C-481F-B992-B6662699D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21B34-98CD-4C9E-B43A-0ABD4625E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83C0-8CF3-4C64-8A0E-6B0D18D4F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13E1D-FB9F-44AE-B736-D9963B2BD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E5C73-36FF-4EB6-A76C-1F74BD1C5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A6A89-46F1-49E6-87F8-AFAEB5990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C8D65-F9C3-455E-9159-7DEB3460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47E92-50A2-45FC-B466-83F4FCD6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7DE7E-D471-4EF3-BB0E-2F441928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DC5B4-528A-43CF-8421-BB01FD841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58643-EAC9-41F0-9C4C-048720EAB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804D4-29C9-4CF2-9492-A5748A730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F4B9E-1BB3-41DE-BFE8-E1A25DF77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7CA8-BE6C-41F3-9E05-C2AAF173B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72AC6-E5C2-4D97-9D93-F2E23DF02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8A9D5-68BC-4F68-A70D-101F233C4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670CA-D937-4CE4-AD8B-A331B1760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2E5A3-E426-425A-BD0A-53FEF8C92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05FAE-4933-4762-B742-A628C8A31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07308-9E62-4B6D-8B6E-78BA8A19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4445B-A8DD-4C1B-B406-2CD41913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7D2F2-1EC4-4F5C-B563-DDCC5C57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53E83-6035-4E55-B590-8A853E977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5170F-D63A-4A04-AF3D-E458774C6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C653-1094-4DA1-A202-BCAF884CD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13E4E-C684-4295-B67A-9D66610CD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177309-94AF-4408-9580-DE73AE894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FA7BB-5848-43F3-96F2-E32E32315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74BB2-6944-4121-8C13-23CB2BD33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C2A57-6473-4D2E-9CF3-C7BE1635C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31032-42CF-4598-A044-AC3B842AA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F0AF87-3686-4535-86DA-0AFA91181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EA84C-EEAE-4974-A4E1-A3B96F07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91C96-F090-4502-960C-40B380B8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E8245-E73C-40D9-9DBD-EEF135CC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BF3F-4750-4EFF-B3E9-C22F24CE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E5080-0F9A-48F4-AA34-5F5E075D3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DA47A-A5D0-4331-8FC4-A2C9FCE40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F491E-4B72-4B73-ACBC-8EB65B5BF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BEFE-37F9-4C25-B052-2B4A252E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1EED-EF49-46D3-A4DB-7F7CAE50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E2125F50-F2E9-4DD0-B7C2-6E9B9CC3587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E09CFB98-1F27-484F-B5F4-FFD72A72CEE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95" name="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95579291-26A4-4B3A-AA6F-844072F010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40" name="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9680" y="1429920"/>
            <a:ext cx="8109000" cy="1614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0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11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12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10AE5E84-1BDE-4CD9-B60B-63FFCCA49D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18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18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0A62215-B0F4-465F-8E33-74A757DE816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3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2DE35EF7-F59B-4755-9F19-BB6DFC59153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0-2021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701640" y="990720"/>
          <a:ext cx="7777080" cy="592272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10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8,4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0,6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2,9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3,4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3,4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9,5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5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2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2,4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6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5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1,5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4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9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9 ГОД  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572,67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72920" y="414360"/>
            <a:ext cx="795636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9 год – 357,91 млн.руб. (местный бюджет – 156,47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01,44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- 66,2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9 год - 6,1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- 11,09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- 1,91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– 2,6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– 1,8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282680" y="1892160"/>
          <a:ext cx="7290000" cy="46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1892160"/>
                    <a:ext cx="729000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228600" y="261720"/>
            <a:ext cx="7896240" cy="61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5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 год (по состоянию на 01.10.2018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0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9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,4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,5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5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6,4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2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541440" y="990720"/>
          <a:ext cx="8151840" cy="568800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по состоянию на 01.10.20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19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3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6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2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14360" y="990720"/>
          <a:ext cx="8567640" cy="581976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по состоянию на 01.10.20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3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9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5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9 ГОД (560,67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9 ГОДУ (351,14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85640" y="156672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640" y="156672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8 И 2019-2021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5240160" y="1141560"/>
          <a:ext cx="3470400" cy="565596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6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0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9ГОДУ (206,48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по состоянию на 01.10.20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1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,6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7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7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2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,7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,7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7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2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5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1,5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9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 ГОД (572,67 млн.руб.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11-07T05:14:40Z</dcterms:modified>
  <cp:revision>130</cp:revision>
  <dc:subject/>
  <dc:title>Структура собственных доходов на 2016 год бюджета Дальнереченского городского округа</dc:title>
</cp:coreProperties>
</file>